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C915-B3D3-4B32-A6F3-2449F9386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ion pipeline software that works with Chado &amp; other parts of gmod. WILL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multiple MODs-press button and suck data out of five different MODs and place into a warehouse for joint quer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 linking to and from MODs using Web Services.  BioMOB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data mining fac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 brow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WORKING GROUP!! – Eric Just is Czar, Peili will create us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 ENCODING DOCUMENT!!! – Chris Mungal is Cz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Paper – case study paper?  Seminal GMOD paper. Scott to follow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to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ciumdb case study (new data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-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xtpresso)(apollo)(gbrowse)(pathway tools)(pub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legacy system (dicty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workshop in the biocurator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meeting right after biocurators meeting in menlo park or stanford or berkeley or u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line) Tuto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group on ortholog group curation – Peter Karp czar (Richard Durbin might want to hel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working group to figure out how to coordinate versi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ite revision to make more user friendly – Brian O’Con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nual joint meeting with biocurators, held adjacent to bio-hackathon / four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mall semiannual developers meeting – two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SWAT Team – request link on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temporary tatto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ime in dev meeting to work together, less show &amp; t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how and tell in annual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56F-7488-4ECB-B0BD-7B933482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8BD-6F0E-46AC-B9BA-6E55C982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9F7-C730-4C25-B6AE-0E7FCC18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373-9D6D-45CB-A5D7-49B7035E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765-EFD1-4EDF-A189-7C29D54F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AC5-F381-49E1-B34D-FF6AC8BE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BFD-FFF6-486B-BE60-9411E59D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48A1-6B90-4254-BE99-557885E7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91A3-86DA-49D5-90BC-AAB6F81B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AA3-A348-45E0-AB9E-6F222B8D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81E-E58E-477F-993E-BFE99896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B15-DF7D-4DE4-9A03-00C58E5B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9EC1-E9E6-4349-BAC2-B03AA27E7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mod.org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– 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MOD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tiv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s, strains, mu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s, SAGE, expression patterns, ChIP/chip, interac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Ch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literature curation tools &amp; Textpresso (with Chado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nteraction viewers run on top of Ch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ve BioPi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mee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operating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ha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log groups (Sonnham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F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’Reilly Model Organism Database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op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bottom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lines &amp;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user-driv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“grand”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MOD PIs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r’s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curator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developer/biocurator mee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10:59Z</dcterms:created>
  <dc:creator> </dc:creator>
  <dc:description/>
  <dc:language>en-US</dc:language>
  <cp:lastModifiedBy>Scott Cain</cp:lastModifiedBy>
  <dcterms:modified xsi:type="dcterms:W3CDTF">2005-05-17T23:47:29Z</dcterms:modified>
  <cp:revision>21</cp:revision>
  <dc:subject/>
  <dc:title>GMOD – What Next?</dc:title>
</cp:coreProperties>
</file>